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07891-C07C-4239-BCC0-934FD65E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0920" y="1625760"/>
            <a:ext cx="828180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10920" y="4071600"/>
            <a:ext cx="828180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F4183-2049-4F4A-A551-B0F93694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0920" y="1625760"/>
            <a:ext cx="404136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4600" y="1625760"/>
            <a:ext cx="404136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0920" y="4071600"/>
            <a:ext cx="404136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4600" y="4071600"/>
            <a:ext cx="404136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140DF-9A11-40BC-A8E5-A7447453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0920" y="1625760"/>
            <a:ext cx="266652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1000" y="1625760"/>
            <a:ext cx="266652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1440" y="1625760"/>
            <a:ext cx="266652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10920" y="4071600"/>
            <a:ext cx="266652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1000" y="4071600"/>
            <a:ext cx="266652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1440" y="4071600"/>
            <a:ext cx="266652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BD281-172E-423E-B93C-61D24481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10920" y="1625760"/>
            <a:ext cx="8281800" cy="46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B8858-3D03-44C5-B8EE-E9A93DC7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625760"/>
            <a:ext cx="8281800" cy="46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23418-B48A-4D9E-8982-C5899C06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0920" y="1625760"/>
            <a:ext cx="4041360" cy="46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4600" y="1625760"/>
            <a:ext cx="4041360" cy="46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269F4-213E-4957-8AD0-1DB84520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6029E-8F3D-4F8E-AC9F-FDCF35AE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1280" y="274320"/>
            <a:ext cx="662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49948-368E-4FF4-B652-9D7B6C88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0920" y="1625760"/>
            <a:ext cx="404136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4600" y="1625760"/>
            <a:ext cx="4041360" cy="46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10920" y="4071600"/>
            <a:ext cx="404136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EAF12-599D-4B84-BBEC-AA87DE4E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0920" y="1625760"/>
            <a:ext cx="4041360" cy="46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4600" y="1625760"/>
            <a:ext cx="404136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4600" y="4071600"/>
            <a:ext cx="404136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DC6C6-6365-47F2-9188-43A688D9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0920" y="1625760"/>
            <a:ext cx="404136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4600" y="1625760"/>
            <a:ext cx="404136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10920" y="4071600"/>
            <a:ext cx="828180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47366-197B-4D55-BF00-A45673BB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One-Bruker_4"/>
          <p:cNvPicPr/>
          <p:nvPr/>
        </p:nvPicPr>
        <p:blipFill>
          <a:blip r:embed="rId2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10920" y="1625760"/>
            <a:ext cx="8281800" cy="46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marL="343080" indent="-343080">
              <a:spcAft>
                <a:spcPts val="1001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7120">
              <a:spcAft>
                <a:spcPts val="1001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50920" indent="-228600">
              <a:spcAft>
                <a:spcPts val="1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Aft>
                <a:spcPts val="10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Aft>
                <a:spcPts val="1001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Aft>
                <a:spcPts val="1001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Aft>
                <a:spcPts val="1001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1128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6541920"/>
            <a:ext cx="2133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54400" y="6541920"/>
            <a:ext cx="2133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A4C9-47D3-45FE-B2A3-94263FEF2BA0}" type="slidenum">
              <a:rPr b="0" lang="de-DE" sz="1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349440" y="6541920"/>
            <a:ext cx="28954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Bd BT"/>
              </a:rPr>
              <a:t>DAFP 3D Die Map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10920" y="1625760"/>
            <a:ext cx="3506760" cy="46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marL="343080" indent="-343080">
              <a:spcAft>
                <a:spcPts val="876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D Die Map Defini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7120">
              <a:spcAft>
                <a:spcPts val="876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28, 256 or 512 profiles are taken in the X direction, equally spaced from each other in the Y dire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7120">
              <a:spcAft>
                <a:spcPts val="876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anoscope then assembles the individual profiles into an AFM like image, the 3D Die M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7120">
              <a:spcAft>
                <a:spcPts val="876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ce the die map has been assembled the image may be analyzed using the standard AFM analy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7120">
              <a:spcAft>
                <a:spcPts val="876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example at right is a 25 mm x 25 mm 3D Die map from the SEMATECH MIT Mask CMP wafer showing Dishing and Erosion of Cu lines in ILD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329000" y="3733920"/>
          <a:ext cx="4815000" cy="27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9000" y="3733920"/>
                    <a:ext cx="4815000" cy="27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343400" y="1066680"/>
          <a:ext cx="2629080" cy="268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1066680"/>
                    <a:ext cx="2629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 rot="5459400">
            <a:off x="6586200" y="2476440"/>
            <a:ext cx="2206440" cy="1219320"/>
          </a:xfrm>
          <a:custGeom>
            <a:avLst/>
            <a:gdLst>
              <a:gd name="textAreaLeft" fmla="*/ 0 w 2206440"/>
              <a:gd name="textAreaRight" fmla="*/ 2206440 w 220644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6952" stAng="10800000" swAng="5400000"/>
                <a:lnTo>
                  <a:pt x="14712" y="5208"/>
                </a:lnTo>
                <a:lnTo>
                  <a:pt x="14712" y="0"/>
                </a:lnTo>
                <a:lnTo>
                  <a:pt x="21600" y="6079"/>
                </a:lnTo>
                <a:lnTo>
                  <a:pt x="14712" y="12158"/>
                </a:lnTo>
                <a:lnTo>
                  <a:pt x="14712" y="6950"/>
                </a:lnTo>
                <a:lnTo>
                  <a:pt x="12427" y="6950"/>
                </a:lnTo>
                <a:arcTo wR="10685" hR="5210" stAng="16200000" swAng="-5400000"/>
                <a:lnTo>
                  <a:pt x="1742" y="21600"/>
                </a:lnTo>
                <a:close/>
              </a:path>
            </a:pathLst>
          </a:cu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21:44:40Z</dcterms:created>
  <dc:creator>shand</dc:creator>
  <dc:description/>
  <dc:language>en-US</dc:language>
  <cp:lastModifiedBy>shand</cp:lastModifiedBy>
  <dcterms:modified xsi:type="dcterms:W3CDTF">2010-12-06T21:47:56Z</dcterms:modified>
  <cp:revision>2</cp:revision>
  <dc:subject/>
  <dc:title>DAFP 3D Die Map </dc:title>
</cp:coreProperties>
</file>