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F973D8-6A58-4D61-9727-95E39706E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11280" y="274320"/>
            <a:ext cx="6624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10920" y="1625760"/>
            <a:ext cx="8281800" cy="22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10920" y="4071600"/>
            <a:ext cx="8281800" cy="22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8278D5-79FB-4627-953C-823EC62CF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11280" y="274320"/>
            <a:ext cx="6624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10920" y="1625760"/>
            <a:ext cx="4041360" cy="22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54600" y="1625760"/>
            <a:ext cx="4041360" cy="22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10920" y="4071600"/>
            <a:ext cx="4041360" cy="22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54600" y="4071600"/>
            <a:ext cx="4041360" cy="22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6B0758-A11C-422B-82EB-B43C51F44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11280" y="274320"/>
            <a:ext cx="6624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10920" y="1625760"/>
            <a:ext cx="2666520" cy="22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11000" y="1625760"/>
            <a:ext cx="2666520" cy="22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1440" y="1625760"/>
            <a:ext cx="2666520" cy="22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10920" y="4071600"/>
            <a:ext cx="2666520" cy="22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11000" y="4071600"/>
            <a:ext cx="2666520" cy="22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1440" y="4071600"/>
            <a:ext cx="2666520" cy="22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86B578-D153-41D5-9023-B8480F616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11280" y="274320"/>
            <a:ext cx="6624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10920" y="1625760"/>
            <a:ext cx="8281800" cy="46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F736E9-9337-43E2-A63B-FA9217877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11280" y="274320"/>
            <a:ext cx="6624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10920" y="1625760"/>
            <a:ext cx="8281800" cy="46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F75B66-3833-412A-8F3F-150470D80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11280" y="274320"/>
            <a:ext cx="6624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0920" y="1625760"/>
            <a:ext cx="4041360" cy="46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54600" y="1625760"/>
            <a:ext cx="4041360" cy="46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9FDAD5-1123-40FA-B0B4-12836FAA1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11280" y="274320"/>
            <a:ext cx="6624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24D883-1B7F-40AD-9BD3-785845DF3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11280" y="274320"/>
            <a:ext cx="6624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FD1AA8-49DA-4E0B-BFDC-F36B153F0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11280" y="274320"/>
            <a:ext cx="6624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10920" y="1625760"/>
            <a:ext cx="4041360" cy="22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54600" y="1625760"/>
            <a:ext cx="4041360" cy="46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10920" y="4071600"/>
            <a:ext cx="4041360" cy="22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A8AA64-A5E7-47AB-9C4D-489CC8EC8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11280" y="274320"/>
            <a:ext cx="6624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10920" y="1625760"/>
            <a:ext cx="4041360" cy="46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54600" y="1625760"/>
            <a:ext cx="4041360" cy="22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54600" y="4071600"/>
            <a:ext cx="4041360" cy="22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D2044D-A393-4328-99BC-1F09EE2FC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11280" y="274320"/>
            <a:ext cx="6624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10920" y="1625760"/>
            <a:ext cx="4041360" cy="22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54600" y="1625760"/>
            <a:ext cx="4041360" cy="22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10920" y="4071600"/>
            <a:ext cx="8281800" cy="22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A93460-8FA6-4D09-873E-BF8DFF620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One-Bruker_4"/>
          <p:cNvPicPr/>
          <p:nvPr/>
        </p:nvPicPr>
        <p:blipFill>
          <a:blip r:embed="rId2"/>
          <a:stretch/>
        </p:blipFill>
        <p:spPr>
          <a:xfrm>
            <a:off x="0" y="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10920" y="1625760"/>
            <a:ext cx="8281800" cy="46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6800" anchor="t">
            <a:normAutofit/>
          </a:bodyPr>
          <a:p>
            <a:pPr marL="343080" indent="-343080">
              <a:spcAft>
                <a:spcPts val="1001"/>
              </a:spcAft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14240" indent="-357120">
              <a:spcAft>
                <a:spcPts val="1001"/>
              </a:spcAft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50920" indent="-228600">
              <a:spcAft>
                <a:spcPts val="10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Aft>
                <a:spcPts val="100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Aft>
                <a:spcPts val="1001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Aft>
                <a:spcPts val="1001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Aft>
                <a:spcPts val="1001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611280" y="274320"/>
            <a:ext cx="6624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440" y="6541920"/>
            <a:ext cx="21337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854400" y="6541920"/>
            <a:ext cx="21337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fffff"/>
                </a:solidFill>
                <a:latin typeface="Verdana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E8BCF-B347-4BE2-AB1E-FB606412E802}" type="slidenum">
              <a:rPr b="0" lang="de-DE" sz="10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3349440" y="6541920"/>
            <a:ext cx="28954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274320"/>
            <a:ext cx="6624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utura Bd BT"/>
              </a:rPr>
              <a:t>DAFP 3D Die Map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10920" y="1625760"/>
            <a:ext cx="3506760" cy="46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6800" anchor="t">
            <a:normAutofit/>
          </a:bodyPr>
          <a:p>
            <a:pPr marL="343080" indent="-343080">
              <a:spcAft>
                <a:spcPts val="876"/>
              </a:spcAft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3D Die Map Defini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14240" indent="-357120">
              <a:spcAft>
                <a:spcPts val="876"/>
              </a:spcAft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128, 256 or 512 profiles are taken in the X direction, equally spaced from each other in the Y direc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14240" indent="-357120">
              <a:spcAft>
                <a:spcPts val="876"/>
              </a:spcAft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anoscope then assembles the individual profiles into an AFM like image, the 3D Die Map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14240" indent="-357120">
              <a:spcAft>
                <a:spcPts val="876"/>
              </a:spcAft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nce the die map has been assembled the image may be analyzed using the standard AFM analys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14240" indent="-357120">
              <a:spcAft>
                <a:spcPts val="876"/>
              </a:spcAft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example at right is a 25 mm x 25 mm 3D Die map from the SEMATECH MIT Mask CMP wafer showing Dishing and Erosion of Cu lines in ILD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4329000" y="3733920"/>
          <a:ext cx="4815000" cy="276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29000" y="3733920"/>
                    <a:ext cx="4815000" cy="276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"/>
          <p:cNvGraphicFramePr/>
          <p:nvPr/>
        </p:nvGraphicFramePr>
        <p:xfrm>
          <a:off x="4343400" y="1066680"/>
          <a:ext cx="2629080" cy="2686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43400" y="1066680"/>
                    <a:ext cx="2629080" cy="26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 rot="5459400">
            <a:off x="6586200" y="2476440"/>
            <a:ext cx="2206440" cy="1219320"/>
          </a:xfrm>
          <a:custGeom>
            <a:avLst/>
            <a:gdLst>
              <a:gd name="textAreaLeft" fmla="*/ 0 w 2206440"/>
              <a:gd name="textAreaRight" fmla="*/ 2206440 w 2206440"/>
              <a:gd name="textAreaTop" fmla="*/ 0 h 1219320"/>
              <a:gd name="textAreaBottom" fmla="*/ 121968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6952" stAng="10800000" swAng="5400000"/>
                <a:lnTo>
                  <a:pt x="14712" y="5208"/>
                </a:lnTo>
                <a:lnTo>
                  <a:pt x="14712" y="0"/>
                </a:lnTo>
                <a:lnTo>
                  <a:pt x="21600" y="6079"/>
                </a:lnTo>
                <a:lnTo>
                  <a:pt x="14712" y="12158"/>
                </a:lnTo>
                <a:lnTo>
                  <a:pt x="14712" y="6950"/>
                </a:lnTo>
                <a:lnTo>
                  <a:pt x="12427" y="6950"/>
                </a:lnTo>
                <a:arcTo wR="10685" hR="5210" stAng="16200000" swAng="-5400000"/>
                <a:lnTo>
                  <a:pt x="1742" y="21600"/>
                </a:lnTo>
                <a:close/>
              </a:path>
            </a:pathLst>
          </a:cu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6T21:44:40Z</dcterms:created>
  <dc:creator>shand</dc:creator>
  <dc:description/>
  <dc:language>en-US</dc:language>
  <cp:lastModifiedBy>shand</cp:lastModifiedBy>
  <dcterms:modified xsi:type="dcterms:W3CDTF">2010-12-06T21:47:56Z</dcterms:modified>
  <cp:revision>2</cp:revision>
  <dc:subject/>
  <dc:title>DAFP 3D Die Map </dc:title>
</cp:coreProperties>
</file>